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C609714-850F-4FFA-B635-C941A298C032}" type="datetime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5DFF4FE-A99D-4E5A-A290-28572726FB23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reports tab, click on library reports from the left list. Under the heading statistics, click on collection statistics summ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upper right hand corner, you will see subtabs labeled circulation, age, and value. Click on the age tab. Then click print under that ta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31A-888C-4F6E-B216-A9767D1B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C26-28A1-40A7-8F37-78ED31F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6CD-AF71-4BAB-8B7B-3F7CB6F7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674-16F3-470B-B018-5F9CC821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2F0-9BED-4D55-9044-74CA5DF1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AEAF-CA2A-41E8-8726-B5C8721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7D0-D411-410C-82F5-A86E420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DEDE-7665-4B5F-BEE8-7912E3F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5468-E9BC-4746-9F20-60C2BB4E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36D-0602-4C85-B951-B0DAF4C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2B1-3F56-4030-A143-3B95AF34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A02-3297-4274-BC07-7D700270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9B1C-A7AB-4D80-88B3-59DC942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631-1DDF-4566-A347-1DA7E21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EB2-476B-46DC-BB7F-3C4B3654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FC0E-46C9-4E3F-A5E0-0E68CD61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65F2-2D25-431B-9DE0-802CA203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A098A-634E-4355-8D06-4CCCF739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A8245-9CDF-4D2B-B109-0F0162D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C5AF1-2E85-4058-863D-DA13071D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7FFE4-7B92-45A0-970F-10F490C7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9D7C1-436D-4963-8336-6ED3528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AF3-6B90-4F7F-B07B-3A7EF81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C644E-9590-493D-81D3-B2C42C8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6FAEC-0609-42ED-8C44-2BCB3F0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0FCB3-5788-4FD3-B8F1-66E05C78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EA051-A4D5-4898-B4CD-790CE77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244E6-2BE9-446E-93CE-8910A97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AE916-8E42-4963-919B-B4324C9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B578E-37CB-4ED1-9FBD-F34E082F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240D-63C5-4B2E-91D5-08ADCB87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24B1-5544-48F1-94AF-71D5A060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69BE-A07D-412F-B34E-6D5CDD9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A3F-3563-4E74-AD48-E5E0B7B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A2F7-8D7E-494E-B958-276A178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1DCB-2971-442F-A84E-6F1A356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0D01-AFE6-4BED-9543-862C8B0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963F-EAD1-46D0-B9F3-14E051F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5B2E-D1C4-4DEB-92E8-D793DB9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29E6C-12F7-48C8-BB99-193C68C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88DF-0AD6-41A4-984B-EC6A0D7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E74F-D129-47AD-98A5-183F6EF7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FC32-BEFB-4C34-B2E1-86A67413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01027-0EC9-4198-B520-442386FB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978-1AA1-4498-A292-9FBFA91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DEBBB-6C48-408F-AAAB-5B925C81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D7FEB-C674-4097-8CAC-CA8029E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C68CF-EE1B-47CD-AE5E-56925CB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BB5F4-F973-4795-A733-A20D6472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3465A-0E76-440A-9A6C-45EC510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8AF01-CDE8-4880-9D13-AAAB3B7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98F5E-1B4B-4F70-9906-A3C7DA0F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46742-D1A8-46BB-9F0D-37D3D53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707EE-0906-41BF-94CD-6DBCB0C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C10AF-BF74-4F27-A50D-4268C730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1DC-FC9D-4143-8EA3-DE9094F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96630-90C1-4E88-A52B-194B36B1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C1B61-D159-4404-AF7A-63866C8C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6EFC3-3D54-41A1-BAA3-BDE93DD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6685B-5D71-462E-A831-AFDC026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AB2D5-BACE-48C9-AA17-884A91FF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3A3C5-F405-4DE2-BF6E-4941608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0F70C-EF08-4C2D-AE46-D9F096A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81F42-BE08-4BD0-9D37-9FF4C08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28680-4E72-4279-BD2C-6A05D07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5BEA8-2ED5-46E0-9479-D55C847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33F-A858-42CB-90E1-CDB7615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1C790-7BA9-4953-A339-83D30F79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6549F-3638-46F2-BEA3-1B33D81F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38603-F8C2-4A91-A53D-C2629DB3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C94EE-4C00-49A0-A1FB-F5D66A9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3106C-556F-4874-9ACE-AEB8109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4D3AA-CC1C-4081-A134-9B2EA250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F3612-4D59-48A0-97D9-A0BBCF76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9D44D-85C0-4524-A842-24E5ADD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6B775-E0DB-4B6E-ADC2-54BBAA51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5311C-AB94-4BDF-AA63-7378B69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FFC-14C9-4CD9-A97E-5A43C278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22E64-9742-433B-A151-E4625F7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3B54D-8C99-4C85-AA98-747A340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C1E65-FA0E-41C4-A7FA-DE0FCE8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C8FAC-EAC0-40DE-9196-5704519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801C6-2CC6-4D14-9FE6-29237B07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07F-0C49-4F1C-A724-00BAB459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3BEF6-F58D-46C8-90D0-84226F2D408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50E19-35FC-4F13-BDB0-7680B3BDF0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B3C7D-F13D-48E1-BC9D-E4ACCC3943F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E04E0-AAD5-4B49-96C1-EA10E86127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B4423-09FF-42B0-88D9-CCB91080AC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732AC-9F36-45DA-B5B6-0D2DEA1140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5BB2E-39BD-4C5C-90CD-FFC8D334F038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F609F-F1D9-4F52-9DBB-D7B2397ADB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D6EE1-B88C-47FE-AFE1-18D1957031B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3364A-2303-4CF9-89AF-0BEB211085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BD0C7-1A82-4F93-83FE-BB7448DC256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D78FC-EDC8-4C1E-8978-D4E343AFD0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87EAB-AAFB-4873-B256-858B44E05B8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CCC84-1987-4A43-B01B-CFEA911D30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ection Four: Reports and Utiliti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banner4_103112"/>
          <p:cNvPicPr/>
          <p:nvPr/>
        </p:nvPicPr>
        <p:blipFill>
          <a:blip r:embed="rId1"/>
          <a:stretch/>
        </p:blipFill>
        <p:spPr>
          <a:xfrm>
            <a:off x="923760" y="1665360"/>
            <a:ext cx="7000920" cy="3552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535200" y="5692680"/>
            <a:ext cx="18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erne Pr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T 7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042080" y="4988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Folle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CollectionAgeReport_LLP3256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rcRect l="18367" t="21889" r="6505" b="26126"/>
          <a:stretch/>
        </p:blipFill>
        <p:spPr>
          <a:xfrm>
            <a:off x="665280" y="1781280"/>
            <a:ext cx="7697520" cy="4124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 rot="5400000">
            <a:off x="2898360" y="1838160"/>
            <a:ext cx="24120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CollectionAgeReport_LLP3297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rcRect l="22428" t="18278" r="7733" b="29431"/>
          <a:stretch/>
        </p:blipFill>
        <p:spPr>
          <a:xfrm>
            <a:off x="1504800" y="1457280"/>
            <a:ext cx="6372360" cy="47242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2216160" y="160020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504800" y="1916280"/>
            <a:ext cx="268560" cy="91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773360" y="4591080"/>
            <a:ext cx="39852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2171880" y="4708440"/>
            <a:ext cx="199044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CollectionAgeReport_LLP3261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rcRect l="21812" t="19153" r="7526" b="12053"/>
          <a:stretch/>
        </p:blipFill>
        <p:spPr>
          <a:xfrm>
            <a:off x="457200" y="1498680"/>
            <a:ext cx="7467480" cy="47448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5934240" y="2013120"/>
            <a:ext cx="199044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934320" y="2282760"/>
            <a:ext cx="84744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CollectionAgeReport_LLP3293-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0:50:33Z</dcterms:created>
  <dc:creator>Proctor, Laverne</dc:creator>
  <dc:description/>
  <dc:language>en-US</dc:language>
  <cp:lastModifiedBy>Proctor, Laverne</cp:lastModifiedBy>
  <dcterms:modified xsi:type="dcterms:W3CDTF">2013-03-12T04:44:33Z</dcterms:modified>
  <cp:revision>18</cp:revision>
  <dc:subject/>
  <dc:title>Slide 1</dc:title>
</cp:coreProperties>
</file>